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7FA-B050-4363-9A90-93D4D5D0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E50-8F16-4A7B-B111-933FD75A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3C9-3998-42E3-A887-C36C10D8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0AD-9424-4373-B0F5-B719A305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A629-39F5-40B3-8625-468DE4E1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CCF6-DE37-4707-8631-F927CC29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4BA5-9357-440D-8ADB-8C409EC9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1555-45BA-4A3A-B72B-664C8440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C98F-5C7D-488D-8B7C-C13AE7AB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3558-CDFB-443C-BD4C-3E073ADD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34A6-99FC-40D0-BB6D-837D2232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829E-64F0-4355-8383-4DD3CC14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0162-4F93-42D1-85DA-72B7B67E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3A78-6B27-4646-84B3-A24FA9AC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DAD5-0F04-4B46-8E95-62A92231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21E1-4D3D-4AA9-93B8-452923EA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B64D-EA7D-431C-B7D6-87C95693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0C989-671A-44D6-A356-FC5DFF4B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E102-D5D7-43C0-8F73-C05FEDD9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1F60A-8751-4FF6-B71A-46705BEB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BC35A-E90E-4E7A-98CA-158F41AF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B64AC-5A08-4EF1-A663-E2159EB4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2569-5A29-42BE-A1AE-FE098B1C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62604-AEF3-4DCF-A0E6-64608EB3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ED8E4-0416-413B-8F2D-434685FC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D5E5-65BC-4628-8236-4DD0786F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78C0A-B807-4AF0-902A-47B52FE0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D6F1F-29A7-4BBF-B4B1-01066F33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D0EA6-6CFE-40D1-BD85-29AEF249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2B5B7-AB40-40B9-B6CD-AB8478CD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3267A-1294-4C00-86D3-11DA9FBA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47C1A-56EF-440A-885D-1497F95F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942C6-7109-4988-837D-CBA9E419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0C11-7EBD-45F4-A2DF-939404E1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1E077-E5E9-4DF7-9614-7E3FADB1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4F723-653A-4987-9D3E-C6E94A7B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F7616-673F-4ECB-AF13-C9DB7E47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161DE-AE1C-4E52-A2DC-7B126087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0A0D0-381C-446E-993E-69D42FEB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D23A6-E0C0-458F-99D9-4E68BF47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E289D-8B2B-4AA9-898A-023F387B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6C3F9-C4B8-496A-8C33-EA5CD2B3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81431-A805-4452-BFB9-89F9CA4E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61629-2325-492F-958E-B4D92AED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3ED-D19E-4B08-8D46-5E35F5B2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48532-9306-44E7-9841-A85F9749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BBFE2-F235-488C-BFE4-962553B6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28088-4FEC-4695-A623-954F5AB8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E8E76-42F8-469F-ABC8-DE2E577E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F1134-60B0-4675-A55D-39F051A3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8B56D-B149-4A6E-AE5F-58023F7A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E533E-23B2-42FE-A437-0E12CB7C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FA735-CAF0-47E1-8107-5AC5132A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A44AC-2B5D-430C-A12F-F332B331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00ADA-8192-4DD1-B405-6A5ABF7B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43F-70E6-4A3E-A955-1EB18B2E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04BA5-B294-4E83-A8B3-7EC4F469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D88D8-A5F2-4B7A-8827-0CC046F4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F4F0A-C4C0-4CA8-9C31-055F6866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AE338-CDCB-48FE-AA6E-2AF0EF21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5CEFA-B130-4485-A401-FC788E9E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C558D-22A8-4AF0-A0AC-0C4FCFFE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30BC9-7163-4D3D-9D7F-DA966435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4CA5F-8744-442D-A142-BA4173FB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B3BDA-6428-4FF9-91CC-80DDE846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4AAAD-7796-4C06-B9E6-C2E5EDE6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8CC-0339-4FCA-B5D3-E58105A5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96CBE-A0DE-462D-BE9C-022E246A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EE6CF-AA92-44C6-A88A-32B7BD10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FC289-2C28-44AA-B3D7-E9E945B7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C03CE-8B6D-410E-B5A8-780B0835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81B93-5527-4A0B-B44B-E8974083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3D0F3-EA5A-4924-8315-C9FF7906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9BBFC-25E8-4ACE-A3FE-BFDC60FC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7997D-E137-4EFF-A703-B45850DF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915D5-456E-4C6A-AE9C-E1A8F52F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127BD-35C9-4FAD-84F2-E10D1CB0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791-79CF-466C-BCED-948D9946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D9127-4DFC-4D0F-A7C0-B1A774BF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AD906-8653-4E31-9BA4-CB92174C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772C2-E562-4EA3-B348-CC10F59F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D3763-589A-4062-A73E-371CED6B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07DE3-402B-41ED-A8AB-09A54A05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7F12CA-4707-487F-BF97-9B6CD10A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618FFF-D942-41E5-97D2-F54390F1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A3B16E-432E-466F-915A-4E3BE5FF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3A8666-5C3B-48CF-9184-4C756F9D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355FFA-6C9F-4A24-8F99-2C89E0A2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492-0E46-4AC0-9EA3-08FF025F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BE1580-0069-4461-B827-3C77E024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E3A395-3ED9-4510-9029-5A808FCB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229CD7-2C64-4273-AF0C-ABD704EB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E6DF70-9BBC-46E2-A70F-E418EE8D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6B6DE6-D193-4F35-A709-67DEF76D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232AC0-AEA7-4233-A6E5-781B4134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9BFD14-A066-4104-A212-8EB36C6F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DA0A-538B-48F4-A711-8B074FBFED7A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21F8-F6A6-4694-B675-434712CECBA2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5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9117-2BAC-4CFC-A571-C57D6949E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0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A6A7-40E7-474E-B4BD-04FA001E7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08D3-F7CC-4FA6-AC8F-9674F05BD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EC65-F882-4554-865F-557B6A6DA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3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3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A369-FC6D-40D7-9138-9AB5573349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8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9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9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0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198F-5E2C-4DC9-8B38-3FD8C4D266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playmusic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hyperlink" Target="http://web.mit.edu/invent/i-archive.html" TargetMode="External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990720" y="1523880"/>
            <a:ext cx="74674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ASEBALL</a:t>
            </a:r>
            <a:endParaRPr b="0" i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9" name=""/>
          <p:cNvSpPr/>
          <p:nvPr/>
        </p:nvSpPr>
        <p:spPr>
          <a:xfrm>
            <a:off x="5931720" y="4989600"/>
            <a:ext cx="31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ichael Dukelow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onday, September 27, 201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riod 7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mputer # 11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19360" y="5289480"/>
            <a:ext cx="395280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Music: Free Play Music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Beach Fun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Monday, October 04, 2010,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Tahoma"/>
                <a:hlinkClick r:id="rId1"/>
              </a:rPr>
              <a:t>www.freeplaymusic.c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381240" cy="36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vention: Baseball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say baseball was invented by Abner Doubleday, but the real way was invented by Alexander J. Cartwr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ever, in Cartwright’s rule of play you could “plug” which means a ball fielded on one bounce was an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game there were no helmets, metal bats, batting gloves, and fences and you had to pitch underh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game was won by the first team to get 21 “aces” (runs) in however many inni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ever major league team was the Cincinnati Red Stocki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baseball has traveled around the world for little kids and of course more adul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material had been made so players could increase their level of pl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ball has continued to embrace even more fans and play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ventor: Alexander J. Cartwrigh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born in in 182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died in 189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" descr="Cartwright"/>
          <p:cNvPicPr/>
          <p:nvPr/>
        </p:nvPicPr>
        <p:blipFill>
          <a:blip r:embed="rId1"/>
          <a:stretch/>
        </p:blipFill>
        <p:spPr>
          <a:xfrm>
            <a:off x="457200" y="304920"/>
            <a:ext cx="6553080" cy="274320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7010280" y="457200"/>
            <a:ext cx="2133720" cy="556272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4495680" cy="281916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4"/>
          <a:stretch/>
        </p:blipFill>
        <p:spPr>
          <a:xfrm>
            <a:off x="4876920" y="3048120"/>
            <a:ext cx="2133360" cy="281916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1649160" y="6051600"/>
            <a:ext cx="60188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Lemelson Mit, Alexander Cartwright Baseball,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10/4/10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Tahoma"/>
                <a:hlinkClick r:id="rId5"/>
              </a:rPr>
              <a:t>http://web.mit.edu/invent/i-archive.htm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7:34:06Z</dcterms:created>
  <dc:creator>install</dc:creator>
  <dc:description/>
  <dc:language>en-US</dc:language>
  <cp:lastModifiedBy>install</cp:lastModifiedBy>
  <dcterms:modified xsi:type="dcterms:W3CDTF">2010-10-13T18:03:31Z</dcterms:modified>
  <cp:revision>12</cp:revision>
  <dc:subject/>
  <dc:title>Slide 1</dc:title>
</cp:coreProperties>
</file>